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A26-5040-4C5B-8C81-01C60B37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C2C-3E0C-4C5B-A3ED-3261A328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2E9-38AB-4E59-8428-962A8DC2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21E-E7F4-4EAD-8FCA-0D3753CB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34B-7F45-4AC6-AB59-DFDDA98C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D32-636F-4015-8D9B-3A50B1E6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E48-27A8-4CDE-BBA2-006626ED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704-27B1-4189-9C8E-203376B1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794-7D85-4C05-87D8-A669255A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CCA-02D9-4D7A-A5D5-1823CBE4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041-2379-4A74-918A-25EE6BA1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12C-7658-44BB-BBC7-007BF682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A055-7621-49A0-BBAD-DFEFC807EC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840" y="98280"/>
            <a:ext cx="7499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ff"/>
                </a:solidFill>
                <a:latin typeface="Comic Sans MS"/>
              </a:rPr>
              <a:t>Look these words up in a dictionary. Are they verbs, nouns, or adjective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2120" y="679320"/>
            <a:ext cx="412776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o ea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o dance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emona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funny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 painting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normo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o wal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 crocodi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 sin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dangero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az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dangero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09840" y="838080"/>
            <a:ext cx="0" cy="463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6600" y="631800"/>
            <a:ext cx="4146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Comic Sans MS"/>
              </a:rPr>
              <a:t>nouns                                    adjectiv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80120" y="622440"/>
            <a:ext cx="86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Comic Sans MS"/>
              </a:rPr>
              <a:t>verb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81680" y="771480"/>
            <a:ext cx="0" cy="463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32240" y="131760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eat - c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680" y="98424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 baile (m) -  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03800" y="1003320"/>
            <a:ext cx="19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ance- ba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7800" y="41400"/>
            <a:ext cx="5823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ff"/>
                </a:solidFill>
                <a:latin typeface="Comic Sans MS"/>
              </a:rPr>
              <a:t>jueves 1 marzo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ff"/>
                </a:solidFill>
                <a:latin typeface="Comic Sans MS"/>
              </a:rPr>
              <a:t>LI: To use a dictionary to find words and sort them to class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46280" y="993600"/>
            <a:ext cx="1936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unny  divertido 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ivertida 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6:50:19Z</dcterms:created>
  <dc:creator>Katy Oliver</dc:creator>
  <dc:description/>
  <dc:language>en-US</dc:language>
  <cp:lastModifiedBy>Katy Oliver</cp:lastModifiedBy>
  <dcterms:modified xsi:type="dcterms:W3CDTF">2012-03-02T06:50:22Z</dcterms:modified>
  <cp:revision>1</cp:revision>
  <dc:subject/>
  <dc:title>Slide 1</dc:title>
</cp:coreProperties>
</file>